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A18-DB1F-4101-AE53-D1B52865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F61-B632-4964-AC37-C34192A3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5E5-FC74-43F6-9E89-C7185F52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9C1-B34D-49A2-A12A-90F58E16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31B-EB42-4E8D-9BF2-544CF006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A2D-A079-4741-85B8-1EE18737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C8B-472A-4E2E-86B9-C9C1E1C0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D7C-C363-4AE8-8553-9D4ACD5A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CB1-E153-4AB8-95BD-B63A8B5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054-93D8-467A-9CAC-A6ED1691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B49-8A00-4CA9-852B-C60FB2F4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F8A-1148-494B-82CD-F47236F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5145-75FD-498C-A504-F439883D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99"/>
                </a:solidFill>
                <a:uFillTx/>
                <a:latin typeface="AlgerianBasD"/>
              </a:rPr>
              <a:t>USB - Steck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sbStecker1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33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99"/>
                </a:solidFill>
                <a:uFillTx/>
                <a:latin typeface="AlgerianBasD"/>
              </a:rPr>
              <a:t>USB - NET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usbNetz1" descr=""/>
          <p:cNvPicPr/>
          <p:nvPr/>
        </p:nvPicPr>
        <p:blipFill>
          <a:blip r:embed="rId1"/>
          <a:stretch/>
        </p:blipFill>
        <p:spPr>
          <a:xfrm>
            <a:off x="743040" y="2239920"/>
            <a:ext cx="84200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20:01:19Z</dcterms:created>
  <dc:creator>Saschbert</dc:creator>
  <dc:description/>
  <dc:language>en-US</dc:language>
  <cp:lastModifiedBy>Saschbert</cp:lastModifiedBy>
  <dcterms:modified xsi:type="dcterms:W3CDTF">2001-05-05T18:56:25Z</dcterms:modified>
  <cp:revision>7</cp:revision>
  <dc:subject/>
  <dc:title>USB - Stecker</dc:title>
</cp:coreProperties>
</file>